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AFA-E7F9-48F5-A6C0-BF259C74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4C0-DFDC-4840-A8CA-F92CBC0F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C1C-5DC4-453A-B127-E6EB67A5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334-9489-45B5-895B-2FD8DB1D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A98-A3E2-44C9-8EF7-B82617FC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B13-161B-496B-8097-23EADB1A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9DA-98C9-448C-A7A8-1D724334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DC1-A2F5-4A3A-B162-7CEECDFA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46B-4B1C-4E6B-ABF4-00FFAB64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035-E487-4203-BCFE-A89B78A9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AAA-6CE3-4A33-8C51-FC25BB30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51F-3EE6-4503-96CC-59B0D4AB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2EB8-1198-4C13-9B4F-D62763EF7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62720" y="304920"/>
            <a:ext cx="358128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عَ مَلاكِ الله جُندُ     لِرُعاةٍ قد ظَهَر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حَولَهُ الأملاكُ تَشدو   بخلاصٍ للبشَ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العُلى لله مَجدُ     وعلى الأَرضِ السّ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لَهُ شُكرٌ وحَمدُ       وسُرورٌ ل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04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552750swRhDgjhNH_ph" descr=""/>
          <p:cNvPicPr/>
          <p:nvPr/>
        </p:nvPicPr>
        <p:blipFill>
          <a:blip r:embed="rId1"/>
          <a:stretch/>
        </p:blipFill>
        <p:spPr>
          <a:xfrm>
            <a:off x="0" y="-4680"/>
            <a:ext cx="533412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04920"/>
            <a:ext cx="3657600" cy="10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عوا لحنَ الثّناءِ    من جُنودِ في عُل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قَياثيرِ السماءِ        سَبَّحوا الربَّ الإ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ُلِدَ اليومَ المسيحُ     مضجَعا في المِذو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ُلكُه مُلكٌ صَحيحُ     دائمُ للأب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RPO013" descr=""/>
          <p:cNvPicPr/>
          <p:nvPr/>
        </p:nvPicPr>
        <p:blipFill>
          <a:blip r:embed="rId1"/>
          <a:stretch/>
        </p:blipFill>
        <p:spPr>
          <a:xfrm>
            <a:off x="0" y="0"/>
            <a:ext cx="5394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4120" y="228600"/>
            <a:ext cx="380988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اركاً مجدَ عُلاهُ      وتَرانيمَ الصَّ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شْرَقَت شمسُ سَناهُ  بِجَناحَيها الشِّ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هَلُّمي يا برايا        وارفعي صوتَ المَديح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هُوَذا الماحي الخطايا ربُّنا الفادي المَسي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24:53Z</dcterms:created>
  <dc:creator>SUZANNE.MD</dc:creator>
  <dc:description/>
  <dc:language>en-US</dc:language>
  <cp:lastModifiedBy>USER</cp:lastModifiedBy>
  <dcterms:modified xsi:type="dcterms:W3CDTF">2002-12-23T19:57:54Z</dcterms:modified>
  <cp:revision>3</cp:revision>
  <dc:subject/>
  <dc:title>PowerPoint Presentation</dc:title>
</cp:coreProperties>
</file>